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550-5C50-4046-8D27-C4721BA7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44C-94DA-4AC4-AC75-1DBDB4FB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C8CD-F9AD-4AB9-A5F8-BA7E812B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EEA-C5C9-4FA6-8C28-5AD73F16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4E69-DBCF-4122-832A-288F4831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F993-1E7D-4717-8156-70281C77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4B02-6696-49ED-9D6A-EECD30E0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7CBB-36EC-4817-AD10-80CB9BA6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BD02-8433-4713-A95F-C795AA9F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1531-5B2E-416B-91BA-EC191263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1640-DB97-48F1-ACA8-5238289E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66E4-8CB2-4858-984C-79F4743A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CCB0-1238-4351-86B3-30E6F75C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A618-DFBD-4E22-9970-4C079670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32C3-32BE-4131-BBB8-C7873444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E139-7E4A-4021-AC43-AF9EEA3F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8701-B9F5-41D3-9521-2503DE66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C1BA-CCF1-402D-AE07-94C7B23C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8AC-60B0-438A-94A1-01C3E36F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B39-0C06-4DEC-BA80-522B13AA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5582-948F-4E94-B4C8-BE9F190D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029-76A5-4C3D-8C2F-7922EB34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008D-3342-4837-98CD-780B23C1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7BDB-97A6-412C-95F1-AF9EF64E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0055-9AAD-4FFD-B5A8-38205E921B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DA6E-C244-4B96-9A34-1C52A7BB2D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: Reading Key to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t’s number the paragraphs together…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se a pencil!    Use a pencil!    Use a penci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 and Circle Key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y term is a word or phrase t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important to the meaning of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first time, let’s do this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hings we look for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 wo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tions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ain, let’s read and underline main ide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looking for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id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article (AKA what it is trying to tell us)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ails or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thi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t’s finish the article and try marking the text agai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’s the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rest: What did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/Circl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/Underline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rst, read the rest without mar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/Circle ter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ime, you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! Do you see any repeating words or variations on the word (including the words we have already circ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Your Neighbor: Put your papers side by side and see if you circled the same things. If not, ask your partner, “Why did you circle tha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 and underline main ide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: Underlin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re you see information abou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, how much of this did we answe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y reading is so connected to college succes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o sponsored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evidence (How do they know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onclusions and recommendations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fter 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 reading the text, my view of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its connection to school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 changed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ons: first, ______________________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second, ___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______________ my belief that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ost significant question this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ses for me is 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, this text taught me ___________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-part argument stat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“_______title of text______,” 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thor’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 and last 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 reports that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. Acco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ACT report,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ing Surve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Reading Survey (1-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ink/Pair/Sh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stion with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own what you thin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tera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itical think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king the tex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OK TO NOT KNOW RIGHT N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tera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ability to read and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itical Thin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inking deeply and in a way that seeks to understand, evaluate and apply knowl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rking the 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reading stategy where the reader writes on the text in order to organize and isolate important inform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LA ci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cademic writing, it is very important to show where a text you are using came f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ations are used to buil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s Ci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o over the p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tent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question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tting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urpose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r read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nd practice reading strategy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why reading is so connected to college success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what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who sponsored th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evidence (How do they know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onclusions and recommendations of th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 question 1 from “Content Questions” page in back of pac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-re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ook at the text before we rea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ut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 on the writer’s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ate it was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newspap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sential Vocabul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we read, it is good to familiarize yourself with the vocabulary you’ll encou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fore we begi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VERY IMPORTANT that everyone gets a chance to read this section without feeling ru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we maintain SILENCE during SILENT READING. If you finish early, read the section again to notice something you didn’t the firs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 read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ragraphs 1-5 sil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ir/Shar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notice? Discuss with your partner some things you noticed in the art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ing the 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way to isolate information in a text in order to understand it better. Marking has 3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the para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 key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line author’s claims (most important id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0:08:18Z</dcterms:created>
  <dc:creator>Rick Millican</dc:creator>
  <dc:description/>
  <dc:language>en-US</dc:language>
  <cp:lastModifiedBy>Tengstrand</cp:lastModifiedBy>
  <dcterms:modified xsi:type="dcterms:W3CDTF">2010-09-16T17:39:48Z</dcterms:modified>
  <cp:revision>17</cp:revision>
  <dc:subject/>
  <dc:title>Study: Reading Key to Success</dc:title>
</cp:coreProperties>
</file>